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56A-CD8C-431A-AABD-F2C7562E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6D5-2D57-4DB8-BC5E-93A69D03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8CC-BC19-4C4B-B9E3-FE01E557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781-293E-4671-B9EF-87F81BB9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604F9-5C8C-4625-92FB-45DA8177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FA23D-7168-4E84-BE1C-EA37F131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4FAD1-FE90-46C8-86ED-48C66BAE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53AF8-46AD-4C73-B10D-EED5C9F0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8E1C4-10AC-4B4C-A7BB-1B3DA86A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DFE6E-EB16-4421-AF19-EC909BBF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5838D-5139-4C49-8808-05AC0F61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75A-A649-42FC-9BC9-86642F4C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4247E-1659-4B8B-BA17-99E20C45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B4A05-F609-4CDD-A476-4B570E5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00C35-5F06-4C59-ACD4-28F433B6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DDE3E-99A5-4730-A1D9-28F3B7A8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A5EE4-CE16-42AA-88C5-5A8C6B05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550-FF2A-45E1-9687-024A3F03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3F9-D972-4629-94AD-CAFA3F93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E9B-8D24-4F02-8EC7-5FF46FE1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B79-9FFD-4E62-ACB5-C6C6C60C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712-0D48-4BF2-BF7D-60F771ED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9B8-9974-4257-99B1-13E47287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0F8-3C23-45A8-BFEB-8E9682F5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5644-B545-427C-9780-7260261C27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9EE6-5B37-4810-AB16-29E44276EE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95480" y="1447920"/>
            <a:ext cx="3200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388620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EVALUARE DIN PERSPECTIVA ELEVULU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PUNCTELE CARDINAL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00" y="76140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. Stabiliți punctele cardinale pe harta de mai j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e3e3ff"/>
                </a:solidFill>
                <a:latin typeface="Arial"/>
              </a:rPr>
              <a:t>ȘEZARE GEOGRAFIC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În ce emisfere se situează continentul As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re sunt principalele linii geografice care traversează continentul asiat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15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VECINII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re sunt vecini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ntinentului asiatic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87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RELIEFUL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e unități de relief sunt pe continentul Asia, având în vedere culorile existente pe hart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STATELE DIN AS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Urmăriți harta de mai jos și precizaţ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va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tate de pe continentul 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019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TURISMUL DIN AS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re din imaginile de mai jos ilustrează obiective turistice din 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590920" cy="177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rcRect l="0" t="0" r="0" b="6000"/>
          <a:stretch/>
        </p:blipFill>
        <p:spPr>
          <a:xfrm>
            <a:off x="6477120" y="990720"/>
            <a:ext cx="2492280" cy="1676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Indonezia"/>
          <p:cNvPicPr/>
          <p:nvPr/>
        </p:nvPicPr>
        <p:blipFill>
          <a:blip r:embed="rId3"/>
          <a:stretch/>
        </p:blipFill>
        <p:spPr>
          <a:xfrm>
            <a:off x="380880" y="2895480"/>
            <a:ext cx="2590920" cy="1731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Orasului Interzis,Beijing - China"/>
          <p:cNvPicPr/>
          <p:nvPr/>
        </p:nvPicPr>
        <p:blipFill>
          <a:blip r:embed="rId4"/>
          <a:stretch/>
        </p:blipFill>
        <p:spPr>
          <a:xfrm>
            <a:off x="380880" y="48006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Kyoto"/>
          <p:cNvPicPr/>
          <p:nvPr/>
        </p:nvPicPr>
        <p:blipFill>
          <a:blip r:embed="rId5"/>
          <a:stretch/>
        </p:blipFill>
        <p:spPr>
          <a:xfrm>
            <a:off x="6477120" y="2819520"/>
            <a:ext cx="2473200" cy="1752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2397240" cy="1716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505320" y="9907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3505320" y="2819520"/>
            <a:ext cx="2438280" cy="1676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962520" y="4572000"/>
            <a:ext cx="171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3e3ff"/>
                </a:solidFill>
                <a:latin typeface="Arial"/>
              </a:rPr>
              <a:t>BRAVO 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1012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45:31Z</dcterms:created>
  <dc:creator>Scoala 2</dc:creator>
  <dc:description/>
  <dc:language>en-US</dc:language>
  <cp:lastModifiedBy>Scoala 2</cp:lastModifiedBy>
  <dcterms:modified xsi:type="dcterms:W3CDTF">2011-01-13T16:02:51Z</dcterms:modified>
  <cp:revision>11</cp:revision>
  <dc:subject/>
  <dc:title>Slide 1</dc:title>
</cp:coreProperties>
</file>